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gif" ContentType="image/gif"/>
  <Override PartName="/ppt/media/image9.png" ContentType="image/png"/>
  <Override PartName="/ppt/media/image6.gif" ContentType="image/gif"/>
  <Override PartName="/ppt/media/image7.gif" ContentType="image/gif"/>
  <Override PartName="/ppt/media/image8.gif" ContentType="image/gif"/>
  <Override PartName="/ppt/media/image11.png" ContentType="image/png"/>
  <Override PartName="/ppt/media/image12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ACB81-9B35-40CE-820F-EB704708AC4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«</a:t>
            </a: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Организация процесса самообразования в педагогической деятельности учителя»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Calibri"/>
              </a:rPr>
              <a:t>Автор: заместитель директора по методической работе Гаврилова А.В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FA2C5-1423-4FED-8DF2-BFF30882975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5 этап – выбор формы самообразования</a:t>
            </a:r>
            <a:br>
              <a:rPr sz="16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формы самообразования можно условно поделить на две группы: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индивидуальная и группова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В индивидуальной форме инициатором является сам учитель, однако руководители методических и административных структур могут инициировать и стимулировать этот процесс. Групповая форма в виде деятельности методического объединения, семинаров, практикумов, курсов повышения квалификации обеспечивает обратную связь между результатами индивидуального самообразования и самим учител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1D89D-7C96-4ED7-B492-39D48D1F909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6 этап – составление плана самообразования</a:t>
            </a:r>
            <a:br>
              <a:rPr sz="18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основании выбранной темы учитель разрабатывает личный план работы над поставленной перед собой проблем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 плане указываю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звание тем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олагаемый результа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пы работ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оки выполнения каждого этап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йствия и мероприятия, проводимые в процессе работы над темо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 демонстрации результата проделанной работ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а отчета по проделанной рабо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1BC90-D8CE-4714-9E64-82917E80A24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7 этап – определение результата самообразования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юбая деятельность предполагает создание некого продукта. Поэтому в личном плане самообразования учителя обязательно должен быть список результатов, которые должны быть достигнуты за определенный сро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римеры результат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ышение качества преподавания предмета (указать показатели, по которым будет определяться эффективность и качество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аботанные или изданные методические пособия, статьи, учебники, программы, сценарии, исследов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аботка новых форм, методов и приемов обуч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клады, выступлени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аботка дидактических материалов, тестов, наглядност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аботка пакета тестового материала в электронном вид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CCC74-8C9F-4165-AAF3-1A27FD7D301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8 этап – анализ и оценка деятельности в процессе самообразования, подготовка отчета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ами отчетных работ могут бы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общение опыт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кла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бор и анализ отчетной документ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зентации результатов работ перед педагогическим коллектив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окончании работы над темой каждый учитель должен написать отчет с анализом, выводами и рекомендациями для других учител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F7E44-6D5C-4D0A-AC32-BB0E8336217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Источники самообразова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левидени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Газеты, журналы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Литература (методическая, научно-популярная, публицистическая, художественная и др.)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Интерне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Видео, аудио информация на различных носителях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Платные курсы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Семинары и конференци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Мастер-классы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Мероприятия по обмену опытом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Экскурсии, театры, выставки, музеи, концерты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Курсы повышения квалификаци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Путешествия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8F906-E680-46DF-8CFE-6EAD2E3E43A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оспитание, полученное человеком, закончено, достигло своей цели, когда человек настолько созрел, что обладает силой и волей самого себя образовывать в течение дальнейшей жизни и знает способ и средства, как он это может осуществить в качестве индивидуума, воздействующего на мир.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 Дистерве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89250-EC7C-42BA-A702-628EAE7C852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условиях реформирования школы, в процессе массового перехода учебных заведений на использование современных технологий обучения и воспитания, способствующих повышению качества образовательного процесса, корректируется работа по совершенствованию профессионального мастерства учител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ершенствование качества обучения в школе напрямую зависит от уровня подготовки педагог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ель должен включаться в режим развития, одним из компонентов которого является процесс самообразов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499D6-0F86-45CF-9319-ECD11F7B4D8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Самообразование учителя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енаправленная познавательная деятельность, управляемая самой личностью, с целью приобретения систематических знаний в области педагог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амообразование учителя есть необходимое условие профессиональной деятельности педаго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EEA2F-4E26-4518-B9B3-05F19B4858B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10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0000"/>
                </a:solidFill>
                <a:latin typeface="Calibri"/>
              </a:rPr>
              <a:t>Потребности, мотивы, побуждающие учителя к самообразованию :</a:t>
            </a:r>
            <a:br>
              <a:rPr sz="2700"/>
            </a:b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Ежедневная работа с информацией. Готовясь к уроку, выступлению, родительскому собранию, классному часу, общешкольному мероприятию, олимпиаде и др. у учителя возникает необходимость поиска и анализа новой информации</a:t>
            </a: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• Желание творчества. Учитель – профессия творческая. Творческий человек не сможет из года в год работать по одному и тому же пожелтевшему поурочному плану или сценарию, читать одни и те же доклады. Должно появиться желание большего. Работа должна быть интересной и доставлять удовольствие.</a:t>
            </a: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• Стремительный рост современной науки. Особенно психологии и педагогики. В эпоху автомобилей негоже пользоваться телегой.</a:t>
            </a: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• Изменения, происходящие в жизни общества. Эти изменения в первую очередь отражаются на учениках, формируют их мировоззрение, и соответственно, очень часто, формируют образ учителя как «несовременного человека»</a:t>
            </a: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• Конкуренция. Не секрет, что многие родители, приводя ребенка в школу, просятся в класс к конкретному учителю, предметнику или классному руководителю. Если учитель на хорошем счету у администрации, методического совета, отдела народного образования, он имеет больше прав в выборе классов, нагрузки и др.</a:t>
            </a: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• Общественное мнение. Учителю не безразлично, считают его «хорошим» или «плохим». Плохим учителем быть обидно.</a:t>
            </a: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• Материальное стимулирование. Категория учителя, мнение аттестационной комиссии, премии, надбавки, а может быть даже звания и правительственные награды – все это зависит от квалификации и мастерства учителя. Без постоянного усвоения новых знаний этого не добиться.</a:t>
            </a: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• Интерес. Учиться просто интересно. Говорят : «Врачу – исцелися сам!» Как человек, который ежедневно учит, не будет постоянно учиться . Вправе ли он тогда преподавать?</a:t>
            </a:r>
            <a:br>
              <a:rPr sz="1000"/>
            </a:br>
            <a:br>
              <a:rPr sz="1000"/>
            </a:b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725CD-776D-4C5C-A90D-F630CF68DD7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1 этап – выбор направления самообразования</a:t>
            </a:r>
            <a:br>
              <a:rPr sz="18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цифика педагогической деятельности такова, что для эффективной деятельности учитель должен владеть знанием собственного предмета, методиками его преподавания, психологией и педагогикой, иметь общий высокий уровень культуры, знать приемы риторики, основы мониторинга, обладать большой эрудицией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авлениями самообразования могут бы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фессионально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лого-педагогическо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логическо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ическо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о-компьютерные технологи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доровьесбереже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вое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7DA5A-C9D9-482C-A5DF-3A5BD0395D4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2 этап – выбор темы самообразования</a:t>
            </a:r>
            <a:br>
              <a:rPr sz="18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можных вариантов тем огромное количество. Каждый учитель выбирает тему самообразования исходя из своих потребностей и методической т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Интерактивные методики на уроках …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Технология проектного метода обучения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Технология развития критического мышления через чтение и письмо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ИКТ на уроках…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Здоровьесберегающие технологии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Портфолио учителя и учащихся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Интегрированные уроки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иды контроля за знаниями учащихся, усовершенствование форм и методов контроля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Работа с одаренными детьми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Дифференцированное обучение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183AD-185C-418F-9E9C-FEFB60B4669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3 этап – формулировка цели и задач самообразования</a:t>
            </a:r>
            <a:br>
              <a:rPr sz="18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ями самообразования могут бы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ышение уровня своей эрудиции, правовой и общей культур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ение и внедрение новых педагогических технолог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ение и внедрение новых форм, методов и приемов обуч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ершенствование своих знаний в области педагогической псих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При этом цель должна звучать емко, отражать и уточнять тему самообразования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и самообразования – это шаги по достижению цели самообраз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EC78D-2752-405D-9538-C2CA423C58E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4 этап – определение круга источников информации</a:t>
            </a:r>
            <a:br>
              <a:rPr sz="18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читывая, что учитель самостоятельно добывает знания, источниками информации могут бы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левидени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газеты, журнал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литература (методическая, научно-популярная, публицистическая, художественная и др.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териалы сети Интерне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идео, аудио информация на различных носителях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тные курс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минары и конференци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стер-класс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роприятия по обмену опыто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скурсии, театры, выставки, музеи, концерт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рсы повышения квалификаци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ки коллег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6F9DC-15E2-491C-9EB2-1772B75E838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6CBC-44B0-42CB-8353-E0FABE824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B55E-B37B-4269-94CD-B27361FB0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42B2-86BB-4C38-9697-A2DA38A41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3AA1-921D-4FD9-8C8A-1D1253C1F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680F-1FCC-46F4-978E-EA15EB9FF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F552-852F-42E7-B1E7-214CD372B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55EB-B7B8-47A4-A9C0-9BA8A7D7B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6E95-AB4F-4984-ADCF-64BA7EEF4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D239-CAE8-4C59-99DA-EE39086C4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48DB-8499-4C31-989A-21A060B3D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D4AD-C6FC-455F-A8BD-0F43FE329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DC91-47D0-434E-8E4F-654FFC181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748F9-83E3-4749-8608-385D5C8D582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1142640"/>
            <a:ext cx="7772400" cy="346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000099"/>
                </a:solidFill>
                <a:latin typeface="Arial"/>
              </a:rPr>
              <a:t>«</a:t>
            </a:r>
            <a:r>
              <a:rPr b="1" lang="ru-RU" sz="4400" spc="-1" strike="noStrike">
                <a:solidFill>
                  <a:srgbClr val="000099"/>
                </a:solidFill>
                <a:latin typeface="Arial"/>
              </a:rPr>
              <a:t>Организация процесса самообразования в педагогической деятельности учителя»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56760" y="5143320"/>
            <a:ext cx="8358120" cy="12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втор: заместитель директора по методической работе Гаврилова А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472240" cy="58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5 этап – выбор формы самообразования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 формы самообразования можно условно поделить на две группы: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индивидуальная и группова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В индивидуальной форме инициатором является сам учитель, однако руководители методических и административных структур могут инициировать и стимулировать этот процесс. Групповая форма в виде деятельности методического объединения, семинаров, практикумов, курсов повышения квалификации обеспечивает обратную связь между результатами индивидуального самообразования и самим учител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"/>
          <p:cNvPicPr/>
          <p:nvPr/>
        </p:nvPicPr>
        <p:blipFill>
          <a:blip r:embed="rId1"/>
          <a:stretch/>
        </p:blipFill>
        <p:spPr>
          <a:xfrm>
            <a:off x="7572240" y="5429160"/>
            <a:ext cx="981360" cy="838440"/>
          </a:xfrm>
          <a:prstGeom prst="rect">
            <a:avLst/>
          </a:prstGeom>
          <a:ln w="0">
            <a:noFill/>
          </a:ln>
        </p:spPr>
      </p:pic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7120" y="274320"/>
            <a:ext cx="83296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6 этап – составление плана самообразования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основании выбранной темы учитель разрабатывает личный план работы над поставленной перед собой проблем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 плане указываю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звание тем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ел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дач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полагаемый результа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апы работ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роки выполнения каждого этап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йствия и мероприятия, проводимые в процессе работы над темо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особ демонстрации результата проделанной работ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а отчета по проделанной рабо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"/>
          <p:cNvPicPr/>
          <p:nvPr/>
        </p:nvPicPr>
        <p:blipFill>
          <a:blip r:embed="rId1"/>
          <a:stretch/>
        </p:blipFill>
        <p:spPr>
          <a:xfrm>
            <a:off x="7858080" y="5500800"/>
            <a:ext cx="819360" cy="752400"/>
          </a:xfrm>
          <a:prstGeom prst="rect">
            <a:avLst/>
          </a:prstGeom>
          <a:ln w="0">
            <a:noFill/>
          </a:ln>
        </p:spPr>
      </p:pic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7 этап – определение результата самообразования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285840" y="928800"/>
            <a:ext cx="847224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юбая деятельность предполагает создание некого продукта. Поэтому в личном плане самообразования учителя обязательно должен быть список результатов, которые должны быть достигнуты за определенный срок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имеры результато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вышение качества преподавания предмета (указать показатели, по которым будет определяться эффективность и качество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работанные или изданные методические пособия, статьи, учебники, программы, сценарии, исследова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работка новых форм, методов и приемов обуч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клады, выступлени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работка дидактических материалов, тестов, наглядносте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работка пакета тестового материала в электронном ви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8001000" y="5643720"/>
            <a:ext cx="890640" cy="919080"/>
          </a:xfrm>
          <a:prstGeom prst="rect">
            <a:avLst/>
          </a:prstGeom>
          <a:ln w="0">
            <a:noFill/>
          </a:ln>
        </p:spPr>
      </p:pic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8 этап – анализ и оценка деятельности в процессе самообразования, подготовка отчета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13840" y="1600200"/>
            <a:ext cx="8643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ами отчетных работ могут быт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общение опыт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кла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бор и анализ отчетной документац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зентации результатов работ перед педагогическим коллектив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окончании работы над темой каждый учитель должен написать отчет с анализом, выводами и рекомендациями для других учител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7500960" y="5500800"/>
            <a:ext cx="1238400" cy="923760"/>
          </a:xfrm>
          <a:prstGeom prst="rect">
            <a:avLst/>
          </a:prstGeom>
          <a:ln w="0">
            <a:noFill/>
          </a:ln>
        </p:spPr>
      </p:pic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2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Источники самообраз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левидение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Газеты, журналы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Литература (методическая, научно-популярная, публицистическая, художественная и др.)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Интернет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Видео, аудио информация на различных носителях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Платные курсы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Семинары и конференции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Мастер-классы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Мероприятия по обмену опытом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Экскурсии, театры, выставки, музеи, концерты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Курсы повышения квалификации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Путешествия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4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57120" y="1071360"/>
            <a:ext cx="850104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Воспитание, полученное человеком, закончено, достигло своей цели, когда человек настолько созрел, что обладает силой и волей самого себя образовывать в течение дальнейшей жизни и знает способ и средства, как он это может осуществить в качестве индивидуума, воздействующего на мир.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. Дистерве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2571840" y="4429080"/>
            <a:ext cx="2714400" cy="192888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условиях реформирования школы, в процессе массового перехода учебных заведений на использование современных технологий обучения и воспитания, способствующих повышению качества образовательного процесса, корректируется работа по совершенствованию профессионального мастерства учител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вершенствование качества обучения в школе напрямую зависит от уровня подготовки педагог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ель должен включаться в режим развития, одним из компонентов которого является процесс самообразова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C:\Documents and Settings\Администратор\Мои документы\Мои рисунки\картинки\CLIPART\image023.gif"/>
          <p:cNvPicPr/>
          <p:nvPr/>
        </p:nvPicPr>
        <p:blipFill>
          <a:blip r:embed="rId1"/>
          <a:stretch/>
        </p:blipFill>
        <p:spPr>
          <a:xfrm>
            <a:off x="8001000" y="214200"/>
            <a:ext cx="719280" cy="714600"/>
          </a:xfrm>
          <a:prstGeom prst="rect">
            <a:avLst/>
          </a:prstGeom>
          <a:ln w="0">
            <a:noFill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06752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Самообразование учител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еленаправленная познавательная деятельность, управляемая самой личностью, с целью приобретения систематических знаний в области педагоги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амообразование учителя есть необходимое условие профессиональной деятельности педагог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Рисунок 5" descr="C:\Documents and Settings\Чупров Леонид\Мои документы\А. наглядность\Анимации исторические\MAN50.gif"/>
          <p:cNvPicPr/>
          <p:nvPr/>
        </p:nvPicPr>
        <p:blipFill>
          <a:blip r:embed="rId1"/>
          <a:stretch/>
        </p:blipFill>
        <p:spPr>
          <a:xfrm>
            <a:off x="7572240" y="5072040"/>
            <a:ext cx="965160" cy="114300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Потребности, мотивы, побуждающие учителя к самообразованию 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Ежедневная работа с информацией. Готовясь к уроку, выступлению, родительскому собранию, классному часу, общешкольному мероприятию, олимпиаде и др. у учителя возникает необходимость поиска и анализа новой информации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• Желание творчества. Учитель – профессия творческая. Творческий человек не сможет из года в год работать по одному и тому же пожелтевшему поурочному плану или сценарию, читать одни и те же доклады. Должно появиться желание большего. Работа должна быть интересной и доставлять удовольствие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• Стремительный рост современной науки. Особенно психологии и педагогики. В эпоху автомобилей негоже пользоваться телегой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• Изменения, происходящие в жизни общества. Эти изменения в первую очередь отражаются на учениках, формируют их мировоззрение, и соответственно, очень часто, формируют образ учителя как «несовременного человека»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• Конкуренция. Не секрет, что многие родители, приводя ребенка в школу, просятся в класс к конкретному учителю, предметнику или классному руководителю. Если учитель на хорошем счету у администрации, методического совета, отдела народного образования, он имеет больше прав в выборе классов, нагрузки и др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• Общественное мнение. Учителю не безразлично, считают его «хорошим» или «плохим». Плохим учителем быть обидно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• Материальное стимулирование. Категория учителя, мнение аттестационной комиссии, премии, надбавки, а может быть даже звания и правительственные награды – все это зависит от квалификации и мастерства учителя. Без постоянного усвоения новых знаний этого не добиться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• Интерес. Учиться просто интересно. Говорят : «Врачу – исцелися сам!» Как человек, который ежедневно учит, не будет постоянно учиться . Вправе ли он тогда преподавать?</a:t>
            </a:r>
            <a:br>
              <a:rPr sz="1400"/>
            </a:b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57120" y="274680"/>
            <a:ext cx="832968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1 этап – выбор направления самообразования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85840" y="1197000"/>
            <a:ext cx="8610480" cy="508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ецифика педагогической деятельности такова, что для эффективной деятельности учитель должен владеть знанием собственного предмета, методиками его преподавания, психологией и педагогикой, иметь общий высокий уровень культуры, знать приемы риторики, основы мониторинга, обладать большой эрудицией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правлениями самообразования могут быт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фессионально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сихолого-педагогическо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сихологическо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тодическо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формационно-компьютерные технологи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доровьесбережен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авовое 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C:\Documents and Settings\Администратор\Мои документы\Мои рисунки\картинки\CLIPART\ресурсы\Анимированные рисунки\Люди\Работа, профессии\business_laptop.gif"/>
          <p:cNvPicPr/>
          <p:nvPr/>
        </p:nvPicPr>
        <p:blipFill>
          <a:blip r:embed="rId1"/>
          <a:stretch/>
        </p:blipFill>
        <p:spPr>
          <a:xfrm>
            <a:off x="7858080" y="5357880"/>
            <a:ext cx="857160" cy="733320"/>
          </a:xfrm>
          <a:prstGeom prst="rect">
            <a:avLst/>
          </a:prstGeom>
          <a:ln w="0">
            <a:noFill/>
          </a:ln>
        </p:spPr>
      </p:pic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99680" y="213840"/>
            <a:ext cx="818676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2 этап – выбор темы самообразования</a:t>
            </a: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196640"/>
            <a:ext cx="8472600" cy="53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зможных вариантов тем огромное количество. Каждый учитель выбирает тему самообразования исходя из своих потребностей и методической тем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Интерактивные методики на уроках …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Технология проектного метода обучения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Технология развития критического мышления через чтение и письмо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ИКТ на уроках…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Здоровьесберегающие технологии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Портфолио учителя и учащихся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Интегрированные уроки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Виды контроля за знаниями учащихся, усовершенствование форм и методов контроля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Работа с одаренными детьми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Дифференцированное обучение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C:\Documents and Settings\Администратор\Мои документы\Мои рисунки\картинки\CLIPART\ресурсы\Анимированные рисунки\Люди\Работа, профессии\image127.gif"/>
          <p:cNvPicPr/>
          <p:nvPr/>
        </p:nvPicPr>
        <p:blipFill>
          <a:blip r:embed="rId1"/>
          <a:stretch/>
        </p:blipFill>
        <p:spPr>
          <a:xfrm>
            <a:off x="7786800" y="5500800"/>
            <a:ext cx="928440" cy="842760"/>
          </a:xfrm>
          <a:prstGeom prst="rect">
            <a:avLst/>
          </a:prstGeom>
          <a:ln w="0">
            <a:noFill/>
          </a:ln>
        </p:spPr>
      </p:pic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5840" y="214200"/>
            <a:ext cx="885816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3 этап – формулировка цели и задач самообразования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28760" y="1143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елями самообразования могут быт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вышение уровня своей эрудиции, правовой и общей культур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учение и внедрение новых педагогических технолог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учение и внедрение новых форм, методов и приемов обуч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вершенствование своих знаний в области педагогической психолог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 этом цель должна звучать емко, отражать и уточнять тему самообразова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дачи самообразования – это шаги по достижению цели самообразо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C:\Documents and Settings\Администратор\Мои документы\Мои рисунки\картинки\CLIPART\ресурсы\Анимированные рисунки\Люди\За компьютером\computador05.gif"/>
          <p:cNvPicPr/>
          <p:nvPr/>
        </p:nvPicPr>
        <p:blipFill>
          <a:blip r:embed="rId1"/>
          <a:stretch/>
        </p:blipFill>
        <p:spPr>
          <a:xfrm>
            <a:off x="7715160" y="5286240"/>
            <a:ext cx="1176480" cy="957240"/>
          </a:xfrm>
          <a:prstGeom prst="rect">
            <a:avLst/>
          </a:prstGeom>
          <a:ln w="0">
            <a:noFill/>
          </a:ln>
        </p:spPr>
      </p:pic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3840" y="285480"/>
            <a:ext cx="8472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4 этап – определение круга источников информации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14200" y="1197000"/>
            <a:ext cx="8715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читывая, что учитель самостоятельно добывает знания, источниками информации могут быт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левидени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газеты, журнал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литература (методическая, научно-популярная, публицистическая, художественная и др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териалы сети Интерне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идео, аудио информация на различных носителях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латные курс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минары и конференци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стер-класс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роприятия по обмену опыто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кскурсии, театры, выставки, музеи, концерт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урсы повышения квалификаци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роки коллег 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"/>
          <p:cNvPicPr/>
          <p:nvPr/>
        </p:nvPicPr>
        <p:blipFill>
          <a:blip r:embed="rId1"/>
          <a:stretch/>
        </p:blipFill>
        <p:spPr>
          <a:xfrm>
            <a:off x="7786800" y="5143680"/>
            <a:ext cx="804600" cy="1128600"/>
          </a:xfrm>
          <a:prstGeom prst="rect">
            <a:avLst/>
          </a:prstGeom>
          <a:ln w="0">
            <a:noFill/>
          </a:ln>
        </p:spPr>
      </p:pic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6T15:05:10Z</dcterms:created>
  <dc:creator>Speed_XP</dc:creator>
  <dc:description/>
  <dc:language>en-US</dc:language>
  <cp:lastModifiedBy>LEGION</cp:lastModifiedBy>
  <dcterms:modified xsi:type="dcterms:W3CDTF">2015-01-26T13:55:29Z</dcterms:modified>
  <cp:revision>16</cp:revision>
  <dc:subject/>
  <dc:title> «Организация процесса самообразования в педагогической деятельности учителя»  </dc:title>
</cp:coreProperties>
</file>